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17.wmf" ContentType="image/x-wmf"/>
  <Override PartName="/ppt/media/image19.wmf" ContentType="image/x-wmf"/>
  <Override PartName="/ppt/media/image1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18.wmf" ContentType="image/x-wmf"/>
  <Override PartName="/ppt/media/image10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9BD6-B377-4CD1-9CC6-CBC086A3D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9BA6-2249-4092-822D-4554865F9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4E0-900E-4977-9343-76DE246F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BAE-B65C-4A04-8AE3-0337E95A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9E2-25DD-495C-8EA5-CCDE047B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A6A-5EF5-499C-B92B-4D4101BA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54F-731B-4B2B-A5D3-B4322B59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BB9-55C3-49D0-B78D-779852E4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6FE-DDAA-4352-A53B-34E55DB0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AD6-B7E9-4B99-8FD4-7E3993E5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663-062F-48AE-869D-734E6910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917-B60B-46C8-9B50-03E17FC5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42A-031A-46F0-9D10-FAF199C5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083-4D85-4DFB-92D9-E1515D56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17C3-BAA1-4401-8F69-3D7242ECD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785000" cy="417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Arial"/>
              </a:rPr>
              <a:t>Learning Chec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el the acid, base, conjugate acid, and conjugate base in each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87480" y="3079440"/>
            <a:ext cx="464040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Cl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C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14680" y="4848120"/>
            <a:ext cx="580536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H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3886200"/>
            <a:ext cx="11430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5791320"/>
            <a:ext cx="11430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3886200"/>
            <a:ext cx="990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5791320"/>
            <a:ext cx="9907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3886200"/>
            <a:ext cx="990720" cy="82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Conj.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5562720"/>
            <a:ext cx="990720" cy="82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Conj.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3886200"/>
            <a:ext cx="1143000" cy="82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Conj.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5562720"/>
            <a:ext cx="1143000" cy="82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Conj.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cids &amp; Base Definition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wis acid - a substance that accepts an electron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819160" cy="2349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990720"/>
            <a:ext cx="7925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1360" y="990720"/>
            <a:ext cx="7797600" cy="0"/>
          </a:xfrm>
          <a:prstGeom prst="line">
            <a:avLst/>
          </a:prstGeom>
          <a:ln w="50760">
            <a:solidFill>
              <a:srgbClr val="003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191120"/>
            <a:ext cx="45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wis base - a substance that donates an electron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219320"/>
            <a:ext cx="48006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Definition #3 – Lew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5486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ccccff"/>
                </a:solidFill>
                <a:latin typeface="Arial"/>
              </a:rPr>
              <a:t>pH scale</a:t>
            </a:r>
            <a:r>
              <a:rPr b="1" lang="en-US" sz="3000" spc="-1" strike="noStrike">
                <a:solidFill>
                  <a:srgbClr val="fcfeb9"/>
                </a:solidFill>
                <a:latin typeface="Arial"/>
              </a:rPr>
              <a:t> is a way of expressing the concentration of acids and bases.  Instead of using very small numbers, we just use the NEGATIVE power of 10 on the Molarity of the H</a:t>
            </a:r>
            <a:r>
              <a:rPr b="1" lang="en-US" sz="30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cfeb9"/>
                </a:solidFill>
                <a:latin typeface="Arial"/>
              </a:rPr>
              <a:t> (or OH</a:t>
            </a:r>
            <a:r>
              <a:rPr b="1" lang="en-US" sz="30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cfeb9"/>
                </a:solidFill>
                <a:latin typeface="Arial"/>
              </a:rPr>
              <a:t>) ion.</a:t>
            </a:r>
            <a:br>
              <a:rPr sz="3000"/>
            </a:br>
            <a:br>
              <a:rPr sz="2500"/>
            </a:br>
            <a:r>
              <a:rPr b="0" lang="en-US" sz="2500" spc="-1" strike="noStrike">
                <a:solidFill>
                  <a:srgbClr val="fcfeb9"/>
                </a:solidFill>
                <a:latin typeface="Arial"/>
              </a:rPr>
              <a:t>Under 7  = acid</a:t>
            </a:r>
            <a:br>
              <a:rPr sz="2500"/>
            </a:br>
            <a:r>
              <a:rPr b="0" lang="en-US" sz="25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cfeb9"/>
                </a:solidFill>
                <a:latin typeface="Arial"/>
              </a:rPr>
              <a:t>7 = neutral</a:t>
            </a:r>
            <a:br>
              <a:rPr sz="2500"/>
            </a:br>
            <a:r>
              <a:rPr b="0" lang="en-US" sz="2500" spc="-1" strike="noStrike">
                <a:solidFill>
                  <a:srgbClr val="fcfeb9"/>
                </a:solidFill>
                <a:latin typeface="Arial"/>
              </a:rPr>
              <a:t>  Over 7 = ba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447640" cy="59436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feb9"/>
                </a:solidFill>
                <a:latin typeface="Arial"/>
              </a:rPr>
              <a:t>Calculating the 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 = - log [H+]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(Remember that the [ ] mean Molarity)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] = 1 X 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H = - log 1 X 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H = - (- 10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H = 1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] = 1.8 X 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H = - log 1.8 X 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H = - (- 4.74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H = 4.7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eb9"/>
                </a:solidFill>
                <a:latin typeface="Arial"/>
              </a:rPr>
              <a:t>Try Thes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nd the pH of thes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0.15 M solution of Hydrochloric ac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) A 3.00 X 1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M solution of Nitric ac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1752480"/>
            <a:ext cx="4191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425160" indent="-4251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99"/>
                </a:solidFill>
                <a:latin typeface="Arial"/>
              </a:rPr>
              <a:t>pH = - log [H</a:t>
            </a:r>
            <a:r>
              <a:rPr b="0" lang="en-US" sz="30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cc99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 = - log 0.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 = - (- 0.8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 = 0.82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 = - log 3 X 1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 = - (- 6.5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 = 6.5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pH calculations – Solving for H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pH of Coke is 3.12, [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 = ??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cause pH = - log [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pH = log [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ke antilog (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) of both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sides and 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ffff00"/>
                </a:solidFill>
                <a:latin typeface="Arial"/>
              </a:rPr>
              <a:t>-pH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26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0" lang="en-US" sz="2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3.1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= 7.6 x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*** to find antilog on your calculator, look for “Shift” or “2</a:t>
            </a:r>
            <a:r>
              <a:rPr b="0" lang="en-US" sz="2600" spc="-1" strike="noStrike" baseline="30000">
                <a:solidFill>
                  <a:srgbClr val="3333cc"/>
                </a:solidFill>
                <a:latin typeface="Arial"/>
              </a:rPr>
              <a:t>nd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function” and then the log but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76720" cy="3214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More About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 can function as both an ACID and a BAS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 pure water there can b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AUTOIONIZ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708800" cy="2449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</p:pic>
      <p:sp>
        <p:nvSpPr>
          <p:cNvPr id="124" name=""/>
          <p:cNvSpPr/>
          <p:nvPr/>
        </p:nvSpPr>
        <p:spPr>
          <a:xfrm>
            <a:off x="674640" y="5405400"/>
            <a:ext cx="776556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ilibrium constant for water = 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1.00 x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43600" y="2819520"/>
            <a:ext cx="2895480" cy="178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9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More About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40381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 1.00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25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neutral solution [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so [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] =  [O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]  = 1.00 x 1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-7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337440" cy="273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9" name=""/>
          <p:cNvSpPr/>
          <p:nvPr/>
        </p:nvSpPr>
        <p:spPr>
          <a:xfrm>
            <a:off x="1224360" y="10382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BTechnical"/>
              </a:rPr>
              <a:t>Autoio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pO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162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nce acids and bases are opposites, pH and pOH are opposites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OH does not really exist, but it is useful for changing bases to pH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OH looks at the perspective of a ba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pOH = - log [OH</a:t>
            </a:r>
            <a:r>
              <a:rPr b="0" lang="en-US" sz="35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nce pH and pOH are on opposite ends,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pH + pOH = 14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34600" cy="5410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371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O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eb9"/>
                </a:solidFill>
                <a:latin typeface="Arial"/>
              </a:rPr>
              <a:t>Some Properties of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Produce H</a:t>
            </a:r>
            <a:r>
              <a:rPr b="1" lang="en-US" sz="23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(as H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3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) ions in water  (the hydronium ion is a hydrogen ion attached to a water molecul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aste sour           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orrode metal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Electrolytes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React with bases to form a salt and water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pH is less than 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urns blue litmus paper to red  “Blue to Red A-CID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[H</a:t>
            </a:r>
            <a:r>
              <a:rPr b="0" lang="en-US" sz="4800" spc="-1" strike="noStrike" baseline="-25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O</a:t>
            </a:r>
            <a:r>
              <a:rPr b="0" lang="en-US" sz="4800" spc="-1" strike="noStrike" baseline="30000">
                <a:solidFill>
                  <a:srgbClr val="ccccff"/>
                </a:solidFill>
                <a:latin typeface="Arial"/>
              </a:rPr>
              <a:t>+</a:t>
            </a: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], [OH</a:t>
            </a:r>
            <a:r>
              <a:rPr b="0" lang="en-US" sz="4800" spc="-1" strike="noStrike" baseline="30000">
                <a:solidFill>
                  <a:srgbClr val="ccccff"/>
                </a:solidFill>
                <a:latin typeface="Arial"/>
              </a:rPr>
              <a:t>-</a:t>
            </a: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] and p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is the pH of th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.0010 M NaOH solution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OH-] = 0.0010 (or 1.0 X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pOH = - log 0.00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pOH = 3</a:t>
            </a: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pH  = 14 – 3 = 1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  K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  =  1.0 x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 = - log (1.0 x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) = 11.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915160" y="4200480"/>
          <a:ext cx="26222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5160" y="4200480"/>
                    <a:ext cx="2622240" cy="2317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9080" y="320760"/>
            <a:ext cx="818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pH of a 2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3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17840" cy="1368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54160" y="878040"/>
            <a:ext cx="597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s a strong acid – 100% dissoc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168200" y="1903320"/>
            <a:ext cx="6269400" cy="510120"/>
            <a:chOff x="1168200" y="1903320"/>
            <a:chExt cx="6269400" cy="510120"/>
          </a:xfrm>
        </p:grpSpPr>
        <p:sp>
          <p:nvSpPr>
            <p:cNvPr id="146" name=""/>
            <p:cNvSpPr/>
            <p:nvPr/>
          </p:nvSpPr>
          <p:spPr>
            <a:xfrm>
              <a:off x="1168200" y="1903320"/>
              <a:ext cx="6269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HNO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        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NO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24360" y="2143080"/>
              <a:ext cx="609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162800" y="2981160"/>
            <a:ext cx="63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 = -log [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] = -log [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] = -log(0.002) = 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9320" y="14860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1120" y="2286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9680" y="14860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02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4840" y="22845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02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40280" y="22845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02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08880" y="22845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14040" y="14842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09480" y="14842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2280" y="3355920"/>
            <a:ext cx="8947440" cy="1368360"/>
            <a:chOff x="152280" y="3355920"/>
            <a:chExt cx="8947440" cy="1368360"/>
          </a:xfrm>
        </p:grpSpPr>
        <p:sp>
          <p:nvSpPr>
            <p:cNvPr id="158" name=""/>
            <p:cNvSpPr/>
            <p:nvPr/>
          </p:nvSpPr>
          <p:spPr>
            <a:xfrm>
              <a:off x="919080" y="3600360"/>
              <a:ext cx="8180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hat is the pH of a 1.8 x 10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-2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Ba(OH)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olutio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152280" y="3355920"/>
              <a:ext cx="717840" cy="13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1153440" y="4191120"/>
            <a:ext cx="642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s a strong base – 100% dissoc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56680" y="5103720"/>
            <a:ext cx="5323680" cy="510120"/>
            <a:chOff x="1156680" y="5103720"/>
            <a:chExt cx="5323680" cy="510120"/>
          </a:xfrm>
        </p:grpSpPr>
        <p:sp>
          <p:nvSpPr>
            <p:cNvPr id="162" name=""/>
            <p:cNvSpPr/>
            <p:nvPr/>
          </p:nvSpPr>
          <p:spPr>
            <a:xfrm>
              <a:off x="1156680" y="5103720"/>
              <a:ext cx="5323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Ba(OH)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         Ba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2+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2OH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21040" y="53434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29320" y="4686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1120" y="5486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39680" y="46864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18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92440" y="54849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18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40000" y="54849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36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08880" y="54849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61640" y="46846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09200" y="46846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0.0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4800" y="6019920"/>
            <a:ext cx="65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 = 14.00 – pOH = 14.00 + log(0.036) = 12.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883720" y="6384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of section 8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page 5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feb9"/>
                </a:solidFill>
                <a:latin typeface="Arial"/>
              </a:rPr>
              <a:t>Some Properties of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6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Produce OH</a:t>
            </a:r>
            <a:r>
              <a:rPr b="1" lang="en-US" sz="25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ions in wa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aste bitter, chalk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re electroly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Feel soapy, slipper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React with acids to form salts and wa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pH greater than 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urns red litmus paper to blue     “</a:t>
            </a:r>
            <a:r>
              <a:rPr b="1" lang="en-US" sz="2500" spc="-1" strike="noStrike">
                <a:solidFill>
                  <a:srgbClr val="00279f"/>
                </a:solidFill>
                <a:latin typeface="Times New Roman"/>
              </a:rPr>
              <a:t>B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sic </a:t>
            </a:r>
            <a:r>
              <a:rPr b="1" lang="en-US" sz="2500" spc="-1" strike="noStrike">
                <a:solidFill>
                  <a:srgbClr val="00279f"/>
                </a:solidFill>
                <a:latin typeface="Times New Roman"/>
              </a:rPr>
              <a:t>B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lue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eb9"/>
                </a:solidFill>
                <a:latin typeface="Arial"/>
              </a:rPr>
              <a:t>Acid Nomenclature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Oxygen</a:t>
            </a:r>
            <a:r>
              <a:rPr b="0" lang="en-US" sz="2400" spc="-1" strike="noStrike">
                <a:solidFill>
                  <a:srgbClr val="fcfeb9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/Oxy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 the cafeteria, you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1120" y="1066680"/>
            <a:ext cx="77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henius 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s a substance that produces 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9000" y="2819520"/>
            <a:ext cx="759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rhenius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a substance that dissociate in water to produ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ydroxide ions, OH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152280"/>
            <a:ext cx="3962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cfeb9"/>
                </a:solidFill>
                <a:latin typeface="Arial"/>
              </a:rPr>
              <a:t>Acid/Base defini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Definition 1: Arrhen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0574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 (aq)                       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2286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809880"/>
            <a:ext cx="723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+  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4038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724280"/>
            <a:ext cx="7315200" cy="15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: Some substances acted as bases and didn’t contain hydroxide ions (OH)  ex: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is only works when water is the solv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eb9"/>
                </a:solidFill>
                <a:latin typeface="Arial"/>
              </a:rPr>
              <a:t>Acid/Bas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finition #2: Brønsted – Lowry (our focu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ids – proton don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ases – proton accep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 “proton” is really just a hydrogen atom that has lost its electron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 donor needs an acceptor so the acid and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base must always be present togethe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id-base pairs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46920" y="228600"/>
            <a:ext cx="7128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do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ac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849320"/>
            <a:ext cx="9144000" cy="2229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63600" y="4800600"/>
            <a:ext cx="738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9480" y="46227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6040" y="4800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4635360"/>
            <a:ext cx="16160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ID-BASE THE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04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Brønsted definition means NH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is 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BAS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 water — and water is itself a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AC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5977080" cy="809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85" name=""/>
          <p:cNvSpPr/>
          <p:nvPr/>
        </p:nvSpPr>
        <p:spPr>
          <a:xfrm>
            <a:off x="609480" y="1676520"/>
            <a:ext cx="75945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438280" y="388620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Arial"/>
              </a:rPr>
              <a:t>Conjugate Pai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6000" y="1536840"/>
            <a:ext cx="8712000" cy="4101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914400" y="1447920"/>
            <a:ext cx="7391520" cy="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57150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and its conjugate base are linked by a transfer of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20:14:37Z</dcterms:created>
  <dc:creator>J. David Robertson</dc:creator>
  <dc:description/>
  <dc:language>en-US</dc:language>
  <cp:lastModifiedBy>C363966</cp:lastModifiedBy>
  <dcterms:modified xsi:type="dcterms:W3CDTF">2014-03-31T19:20:31Z</dcterms:modified>
  <cp:revision>51</cp:revision>
  <dc:subject/>
  <dc:title>Acids and Bases</dc:title>
</cp:coreProperties>
</file>